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0CC6-2BB4-4D7E-83D4-B40E3913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2DA-A5BA-439B-83B8-6BCCBB78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4185-F056-42F7-83FD-6A1B25DB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7ED-E361-45ED-B0E1-F3413506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54A-F2E9-4D2E-860C-136F38CF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CC7-81FF-447C-A8FE-9A5F87F6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FBE-C4A5-4738-8867-F6ED40D1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ADA-70F3-4AC1-9839-22CEA257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CB30-4883-422A-8ED3-C09A6185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8A8-1848-4CE0-A63E-BE26E7B2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DFF-0C26-42E7-A549-995D5D78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06F-A3CF-4557-BD10-86C9DEDA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C392-51DC-4482-9D41-7A310ED37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971800" y="3733920"/>
            <a:ext cx="3809880" cy="3886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/>
          <p:cNvSpPr/>
          <p:nvPr/>
        </p:nvSpPr>
        <p:spPr>
          <a:xfrm>
            <a:off x="152280" y="3733920"/>
            <a:ext cx="2743200" cy="2133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52280" y="133200"/>
            <a:ext cx="6553440" cy="18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350532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arry S. Truma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@HSTRUMAN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STRUMAN was the 33rd President of the United States. The final running mate of President Franklin D. Roosevelt in 1944, Truman succeeded to the presidency on April 12, 1945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23920" cy="1434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5424840" y="250920"/>
            <a:ext cx="1229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3,183 Twe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83 Fo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200,567 Follow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52280" y="1981080"/>
            <a:ext cx="6172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hort 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ersonal background of your delegate (Birth, Education, Profession – Private/Public , Political Party,  Military Exper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hat was their role at the 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hat was their view on the topic of re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d.      What was their view on the topic of the execu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e.      How geography effects your delegate (where they live, how they make a living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04920" y="3795840"/>
            <a:ext cx="259056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3 Sample Follo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ben Barkely - @AlB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Vice President under H.S. Trum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oseph Grew – @JoeGrew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retary of State for FDR &amp; Truman (194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ames Vincent Forrestal - @James4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cretary of Defen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9"/>
          <p:cNvSpPr/>
          <p:nvPr/>
        </p:nvSpPr>
        <p:spPr>
          <a:xfrm>
            <a:off x="228600" y="3581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2"/>
          <p:cNvSpPr/>
          <p:nvPr/>
        </p:nvSpPr>
        <p:spPr>
          <a:xfrm>
            <a:off x="304920" y="3657600"/>
            <a:ext cx="635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52280" y="6046920"/>
            <a:ext cx="714600" cy="97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1027080" y="6046920"/>
            <a:ext cx="80316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4"/>
          <a:stretch/>
        </p:blipFill>
        <p:spPr>
          <a:xfrm>
            <a:off x="2057400" y="6046920"/>
            <a:ext cx="838080" cy="971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3548160" y="6168960"/>
            <a:ext cx="30718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Harry S. Truman @HSTRU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Boys, if you ever pray, pray for me now. I don't know if you fellas ever had a load of hay fall on you, but when they told me what happened yesterday, I felt like the moon, the stars, and all the planets had fallen on 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5"/>
          <a:stretch/>
        </p:blipFill>
        <p:spPr>
          <a:xfrm>
            <a:off x="3157560" y="6172200"/>
            <a:ext cx="35712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6"/>
          <a:stretch/>
        </p:blipFill>
        <p:spPr>
          <a:xfrm>
            <a:off x="3146400" y="3965400"/>
            <a:ext cx="3603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3622680" y="5137200"/>
            <a:ext cx="2967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Harry S. Truman @HSTRUM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Spending time in Potsdam with @JoeStalin, @clementAttlee.  You boys haven’t seen anything like this befo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7"/>
          <a:stretch/>
        </p:blipFill>
        <p:spPr>
          <a:xfrm>
            <a:off x="3143160" y="5137200"/>
            <a:ext cx="36036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5"/>
          <p:cNvSpPr/>
          <p:nvPr/>
        </p:nvSpPr>
        <p:spPr>
          <a:xfrm>
            <a:off x="3622680" y="3979800"/>
            <a:ext cx="2362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@</a:t>
            </a:r>
            <a:r>
              <a:rPr b="0" lang="en-US" sz="1100" spc="-1" strike="noStrike">
                <a:solidFill>
                  <a:srgbClr val="1f497d"/>
                </a:solidFill>
                <a:latin typeface="Calibri"/>
                <a:ea typeface="Arial"/>
              </a:rPr>
              <a:t>JoeStal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:  Russians do not like surprises…I have an “idea” of what your developing.  @HSTRUMA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115920" y="7250040"/>
            <a:ext cx="20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imilar to Harry S. Tru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8"/>
          <a:stretch/>
        </p:blipFill>
        <p:spPr>
          <a:xfrm>
            <a:off x="171360" y="7554960"/>
            <a:ext cx="676440" cy="674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18"/>
          <p:cNvSpPr/>
          <p:nvPr/>
        </p:nvSpPr>
        <p:spPr>
          <a:xfrm>
            <a:off x="870840" y="7753320"/>
            <a:ext cx="181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Paul Tibbets @PaulEnolaG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00:02:15Z</dcterms:created>
  <dc:creator>holzhauserj</dc:creator>
  <dc:description/>
  <dc:language>en-US</dc:language>
  <cp:lastModifiedBy>Holzhauser, Jacob</cp:lastModifiedBy>
  <cp:lastPrinted>2012-11-28T01:28:29Z</cp:lastPrinted>
  <dcterms:modified xsi:type="dcterms:W3CDTF">2014-11-13T18:51:13Z</dcterms:modified>
  <cp:revision>17</cp:revision>
  <dc:subject/>
  <dc:title>Harry S. Truman @HSTRUMAN  HSTRUMAN was the 33rd President of the United States. The final running mate of President Franklin D. Roosevelt in 1944, Truman succeeded to the presidency on April 12, 1945.</dc:title>
</cp:coreProperties>
</file>